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B8F9-05F4-4750-8779-16314E5ED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76DA-CE78-49D4-A03F-7F5EF3FA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3272BF-A9EB-4F7B-86BD-D47BE80E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D52AAE-017D-4CC6-BE44-3314CBD6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1675E2-8C19-4840-8E1E-74020D99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1A6981-77B1-4D11-A7BA-426EEAE2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1A06FE-7305-4D03-A8FA-FEB11917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64F05F-5D85-4207-9199-BC098031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952E4C-1858-462F-ABA8-18F1F4BA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531E75-EAE3-4796-AEE4-6937B4F74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8EE1D0-A649-4FDD-BBBC-1981C1165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6D076A-5A8D-4D18-AA85-C0AFD1E06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4109-F1B4-4C1A-B70C-8CF7CCA98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0D8018-1A4D-4A9E-BB89-8EB69D91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6BD049-C75B-4599-936D-96E24A98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78CFB1-1EB2-440C-94B6-36435F2B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65B09A-0570-4183-8E43-39E0F872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8BF9DC-37EC-4C4C-A5CA-C8AF9593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82B06E-EA38-4A37-8BF3-21FC73C7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97B3F8-8B05-4AA1-8C90-A623BA70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EAEF93-2937-4FA5-A2DF-FBBDEBFB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243652-652E-438B-9722-70058D75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401B7B-59CC-412E-A86A-C01F82FBD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B4C0-DB5A-4FF9-A7A9-672822D6E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219930-922C-4FDC-B746-C48C53A32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E48A8-FCD9-4DFB-A4F5-DD6993E24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0789EA-40FA-4C53-88B8-124895A8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24EA3-3878-4922-9892-EBF8C822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12892-95EC-402B-AC1C-3475A2F4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1C505-053F-4123-8575-A29606A1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A2FE0-602C-4A0D-8F84-109F47C6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14263-6C11-4F4E-9D13-836B1450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9847F-C9E4-428A-8F59-EF6F26BA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1BC939-069D-4925-BE84-2F45D765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42DB-4DC1-4C80-98D0-E80FD53DB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4B64D-2D30-4C77-9F4A-C0B67BC0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CFE01-B3F5-4E31-84E5-DA43E0AEC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C6A65-1ABB-491F-83CC-3DC7D7E7C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7A7767-6113-4A1D-8EFC-2864C928D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92D71B-4801-4E4F-B8E0-92F6BD0F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B8BC08-5B11-4DA3-BA6D-BEB9FE3D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557A2D-2367-4D29-901B-21CE40F3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B595B4-E189-44EC-B4AE-BFDCB789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83E99A-A008-4150-AC61-F3BAB7D0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138642-9A61-4603-98EE-8D53F69F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F3FBE-215A-4329-891F-9F3227E0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063FEA-FEEE-4541-A2F2-F031C4B6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D68AC5-0B1E-4441-847F-184BEC13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C57951-B538-46A7-8590-4AB27EC0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C16D80-F4AC-4F28-A19C-87F08C2F9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C9669C-5A2D-4E1E-BDCC-C3229D310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2B7577-0E19-4CF2-828F-FF82CB205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AECA1F-7581-487B-BA59-CA8C61C1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A93772-8AD4-4A16-B150-8A5CA28B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2A35E6-9DBE-425F-A46B-2439F37C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97CA34-8D5E-48E9-89B0-8808CF32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32F1-295A-4DB1-8AA4-124FDA3E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48BE69-CDEF-4675-9EFF-2B66B37A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BC9F56-3B44-436E-BC26-FC5E1B9A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C69F41-D9E1-4FC2-9856-4FDD74C9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46BE12-94C0-40B7-8784-F8EB9BA5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10E62F-BC11-4094-BD65-A5FE8934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51985A-F5C0-4CC6-9CD3-13498B0FD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D23852-44C6-4572-A670-507D5FADA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CA03F2-C773-4A25-9DCC-CA9822812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ACB3F8-B396-4EBE-9642-FD2A2D7A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3F4E95-5E61-4724-BD54-FFA25787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EDA7-A770-49DA-9CD2-5F4853A0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189B22-2CB1-45EE-9751-347A17C5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7C4C6D-7085-44B7-8B92-3792ECCD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FD483B-CA13-443E-BB81-490513C5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8666EE-3FC7-4744-B388-A86C3907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0D364D-2B43-4E5B-8E24-E0216D68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CA76EF-F049-4A94-AE11-98289E04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D4846B-518E-4230-AC17-E884DA7D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C886FA-6E03-41CB-9DBD-52906D562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56C777-E71C-4E49-AF0D-FF27DDA29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CB5892-870A-49CB-BEF7-E4AFC4527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C85D-D059-4357-9733-313F4075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222751-F0D1-43C9-85D3-FE27FD54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324F26-EF30-4C31-A34A-B0DAA2E3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A31614-9D95-4211-B4F9-E303BE48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9355B5-606C-4ACD-BFB6-8DCBEE9F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BEC9C8-7F3D-4C5F-AFED-AAC9F97A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1716E1-69E6-4B6E-B414-50695C9A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844D3C-8892-4287-9847-4FFAFD6F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BE8A1E-8DC4-4FF8-9756-80D7D28F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FB8EC9-0BAE-4076-8DD0-5032D802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719A35-1339-412E-88CC-AA0D69974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85FA-3EFB-43B8-905D-6C8DA7C7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5B5BEF-E8CB-4C5A-85A9-B3C640258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824A46-EFB4-4BEC-B8B5-9C6A2614D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59C8E2-DD75-419F-827C-9E90AD65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0D4F47-C970-4DE6-8F28-3D85261D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E77024-871F-451F-8338-2163D181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C90EC3-F001-47AA-AF01-6C6C7CF3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BF6CE8-F944-4FB1-B7F5-5C876676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1AB45B-4F21-4EE7-A1AC-4606BB2F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C365A3-B595-446D-9916-B3AC088A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D2951A-AC78-4568-BF7E-26B1569D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FE4C-12F3-4271-B7A8-0437EE49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BD4832-D14A-49DC-8FC4-DB8CD19E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4B7170-1B29-4503-AFCF-9DB2E5B3E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801254-9F1E-4FF7-8FB4-E2329E5A3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07BD33-5F09-4049-8ED5-88FE527ED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839C9C-C80F-43C2-9BC4-7828290A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4E86DD-1F12-4F1F-987C-8492E062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23FE7F-4464-4390-B4F5-59791566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E28398-512C-4E79-AA67-A2019B85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003CA2-0E05-4FC5-BF98-FDF8C757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320BF1-DA8A-47B4-BA0D-301F09DE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8A34-9736-4ACB-B2DC-33936546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FF04-7270-46B3-967A-4A209A00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8D668B-2DAB-4B9B-9F35-FB98DB76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071572-C3FF-40DF-95C7-F11FD3A7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EB5EBD-6F7D-442C-A7D8-00E323A1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72872B-5793-4314-942D-2480B1EB4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1934B5-965A-4D78-ABD9-7790D06D3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AA360F-57E1-4BF6-8C2A-043A591B7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1F0156-AADC-4134-8362-C216879C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77D5A6-7D2D-447B-8BEA-26504062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9F9AD6-02DC-4567-8D66-B29428D07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384713-EC81-4744-BD3B-6FC87DF1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E05D-138D-488B-8E3A-3CEB87C8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9B9733-16BC-4F4F-8BB8-B491D4E7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E11F0B-5B60-4205-B12D-01B60053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EB43F7-1C62-49D4-87F2-D1ABB4A9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BE65F4-FDE4-4663-A779-7F1D211E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959ACF-F191-43BF-8E60-61EBA2B8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DF2295-6816-48C0-AD88-1A82D36CF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6D4212-B2A9-4475-A62F-D4B4FA053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553206-7CF2-4DC5-8B3A-C295F1A6C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F08029-3C8A-4A9F-B073-8275142D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1215C2-B0C9-486E-ADA6-55239B2F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5137-4021-40FD-BBA5-442B52B0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62C1A8-E594-4C49-BA2E-EA6609C7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6654EA-FC0A-4774-BD94-ACDC0077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DCA95D-AFC9-4F26-BF83-A50615CA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BE6A53-0553-402D-8543-68B043C5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54DE19-8782-4571-9EBD-92A6CED0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8BDD1C-03F8-43BA-8570-83253F2D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784CFF-33CE-4F3D-A6D9-495FCBC5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8C986E-C7D0-4FFF-AF97-516F1BF41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F35D44-7413-4119-B982-9F1290056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FE3BEB-03B8-4517-9C8D-9A0AA69AA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B6B3-0CCF-4919-BDD5-4605B61A1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A24DBF-EBBE-47A5-AD50-A5C22999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508E0A-A478-4034-A7CC-A5F8FA169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DA0F57-699C-445C-A563-03C8F79A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6F391E-C805-40FE-802B-8E280EF3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8C1D17-DD2E-4014-8B48-14C0AE6F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EDEFA2-DFAD-4CAB-88F6-AF652711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DDFED8-82D5-425A-97F6-9F77BA08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6C1135-BA74-4DC9-B97D-BBC77533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C91BD7-9EA0-438A-A7FD-EA81BF04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BEA651-305F-4340-BC12-A9E82E0A3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F1B4-9EE0-4BC9-B1F4-9682424AC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131D54-1237-4DEB-A643-8C7233C21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FE0EB5-03C6-4D4D-89F6-C9FE927EE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A46733-13C0-474E-8464-D0D4BFCC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7BC1C3-7566-4B82-91D3-84DBDE6B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BA976E-0C2B-4BFC-B3F2-62D947EC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084482-1FDA-45D2-840E-72818592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B3F3E8-579F-485C-8DCB-0F38A493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BF63A7-B307-4E05-9E8E-3545488B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1165A9-33A0-47E7-A6EE-0E32DDE5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7A38C4-A96A-4C33-897F-FD887BCF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AD702-DF72-4A75-84D7-87685066C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55BA74-AC82-4117-9553-0D7DB7A0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DA5D20-753D-4FC4-B6C4-899272761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34258D-CDF3-4403-939C-22450D51E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A5B9E-C503-47E2-B7DD-2EB2009F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D34F2-9ACE-46F0-8922-1EB8CD89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89B5E-AA8D-4CDE-8F33-44049548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A781D-52D2-41A3-9664-B3D4DCE0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17E6-618E-4314-ADED-6054C01B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D0CDD-D311-4A8D-8093-69882D94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20FE3-1B08-437B-BC8D-123DFBD4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E5AC1-060A-4234-A587-18E72562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75CD2-C774-4CEB-858F-ECF4E48C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E41F7-1D94-4CB4-A688-B506F3EF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68EBC-3A6F-4612-8CA8-A493505BB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12776-0FAE-48F6-B4EA-3BC9D60F2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CEA0C-0091-46C1-86B0-61A28D4B1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3902F-0CBF-4785-97D6-83A4F49C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E2147-E582-4280-A1DC-3232E957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DA28-AAC2-4534-8823-817E3736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D63EC-E606-43DB-A4BE-EC3CFC4E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D51AC-2362-49CA-BDF7-26F10F23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0D14E-7AB4-46A9-B50E-051EBD94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C3BA6-EB03-48F2-8F92-3A8649A6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96481-1605-42E1-849A-990CBE60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F5DD5-BAD2-4BE7-9C69-64F0469A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3C5EE-D897-4685-9B6D-84091F2C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9B484-AAD2-4860-9AAB-CEB671A70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EB3F9-7461-4C3B-A5F3-A72AE0021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7870F-2C77-4F1A-845B-B6B75910E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46BD-E8A8-4DD6-AAD1-04C79E69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AA36C-880B-43BD-BE74-3D8BAD8F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C9311-D30E-4CD8-B877-28AA76F1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1C8EE-D9FD-4512-9ADE-49C360E9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DA5A7-6923-4F01-9748-8B9B6F69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72F15-7664-4C01-B526-5D889448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4AD98-D724-4118-BE4F-C9A5510E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678C8-A9CE-439A-8DD2-FF3EF25B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F84C4-B5B3-4C05-AD6E-DDF32451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10439-48CD-4361-A4CB-6CAD88A5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1C902-D844-4FC4-8B66-0F2928022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C6FB-A5D1-48F6-8673-FFAA3A52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031A0-EC18-4120-848F-AB08F94D2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C30D8-A3A7-4974-92B9-9F2FD0D66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1B94A-6491-431B-B7BD-284A3396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76D56-130D-4364-9CC9-14545598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1AF02-2BFA-4886-B3E3-5166C7F0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002E9-C6EF-4F80-903E-F74AE0B0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BB405-05AB-4F7C-9058-1D7E3171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2CAD1-D697-4DA0-A26C-86125450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1A54C-7E64-4C4A-95E4-2ADE64D7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6DC85-1A6F-4FFB-9D0A-8FF640CB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88B7-8ACC-4DC8-B4D2-B3440B5F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C05D8-6646-4DB8-B4F5-748FE6DC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7457C-5E74-414F-99CE-C1816E86D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72812-6A88-48C6-9E5F-F3C416C7D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1FCF6-7621-425C-BCB8-BD660611E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5ADB3-23DE-472C-92D7-4D1C4FD0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6CD88-9B83-48EC-A23D-0F548542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B899F-C8EC-4F0E-9B16-23F83DE6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2F5F1-52F1-47A7-8261-14CF66B7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D8CEF-D1BD-4B5B-8438-9295B14E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37748-EBBA-4C20-8873-DE21E2DA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B5D3-9980-4D33-8754-26539B03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8BBA7-9B6D-4EB4-812E-5E0D7838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AF03A-CC96-45B8-AFBB-A4D72ABD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641B0-6432-4117-A175-7F119757A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4B3AD-4D23-4A2D-853D-C0B92E05C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C0022-93E6-4D50-B6EB-A6AA9EB83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5EDBF-D19A-4183-87FD-B7501F5DB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12FF2-3244-4FD4-A73D-A6DA2F07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90CE7-B30B-4B86-9DFD-F6512098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DF67D-7026-4C1C-BFD2-A2B22E41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FDAA3-C88B-4C55-9A3A-9B5F9775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F0C8-DCC5-49EA-9A19-EBDFB504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87417-D635-490A-9EB4-86212DB6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18015-00E6-433D-BEF2-D3983430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B37C0-A465-463E-9ED0-2A6B3B8F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B4252-8699-40C7-928D-EE7F205D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B210D-32E9-4B97-99E9-9A6B87FE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834B4-F214-418E-9C8C-37A3066EC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9979E-11E3-491F-8BEF-58BCA5C99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EC2724-B1F5-4267-BF3F-F47EB5F68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0C402C-AF31-44E1-94BF-FA9D819D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8DC57A-2CDC-47C1-8B5E-97960418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194D-7CE6-4DED-B8CE-6D1AFB9D66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A3BC-6046-4FD7-B909-7038D26767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56DD-21BF-4E36-96CC-3927C0BF46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BEC4-2E6C-434F-842D-A0E977F7AF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BAC4-C576-4EC2-AE23-62C265D62C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B585-D7EB-44E3-8AB6-5ED6DDD26B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C0EF-E73E-4268-B34D-33625EECCB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DE76-4E89-45C4-9343-2418C440A4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E7DE-3949-4A2A-A522-C1FA8712C0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44F1-0F76-46AB-983C-6AC2092DE0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5622-3D6F-447F-978E-E138F16D56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898E-8576-427E-BC66-306A4FF8AB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76F4-78FF-4232-B154-2E26E90E5B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6E28-326E-469B-B8EB-D01618E8A1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E24E-768E-48DA-B695-6F7D26FAC1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BBF5-4F0B-4F40-8F13-A1810BE58A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F6AE-3A3A-465B-8017-41FD3CDB32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A3EC-00F2-4CE5-ACEC-4BE0D4FE6C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B713-533A-48B4-8073-CFA34C0712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221F-9278-4216-A2FE-C925A0E7FB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D19F-FF8E-47FE-BA2C-073BBC08FD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B249-578E-4D33-A866-A018A5D391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F4B5-20B6-4B5B-9D74-C12AA4DDA5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95AE-BD1C-46B4-A489-5EE5E7F9C2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11F1-B864-4FB1-997C-6091EE50E9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AB19-1B7C-4C2F-907E-793847D25A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47CA-90E3-474F-9511-E1576DDC45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70C4-A718-4D2F-8BA8-6EE82F00E6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D6C7-988C-4681-AFFB-AB0A87633F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17D8-1E28-482D-9EB7-059431D63F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096D-C822-4B78-A00E-DA3E113D2E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44CB-C0E5-4812-93BE-F8F913C51A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F8B2-40FD-4C50-A017-B76BA044C1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197B-F177-4271-A509-617DB6B621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79AD-1778-4F53-9E18-7E49AA7C48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3E3A-1B4F-4316-B372-585F4FC77A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E164-68F4-4963-A8BE-1A6057CBA1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EEB6-06D6-4810-B56A-692A0CF614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59CE-319A-44EC-83E0-31405270D6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7C33-B76C-451D-B483-A2CE45EB95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3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604960" y="3186000"/>
            <a:ext cx="3934080" cy="4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23840" y="1095480"/>
            <a:ext cx="8896320" cy="46670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468360" y="2143080"/>
            <a:ext cx="1224000" cy="2574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1763640" y="2143080"/>
            <a:ext cx="1513080" cy="2574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395280" y="2449440"/>
            <a:ext cx="2664000" cy="2574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3132000" y="2463840"/>
            <a:ext cx="2664000" cy="2570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108000" y="2781360"/>
            <a:ext cx="2663640" cy="2570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684360" y="5167440"/>
            <a:ext cx="3600360" cy="2570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684360" y="5473800"/>
            <a:ext cx="3600360" cy="2570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4859280" y="5167440"/>
            <a:ext cx="360036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59410" descr=""/>
          <p:cNvPicPr/>
          <p:nvPr/>
        </p:nvPicPr>
        <p:blipFill>
          <a:blip r:embed="rId1"/>
          <a:stretch/>
        </p:blipFill>
        <p:spPr>
          <a:xfrm>
            <a:off x="109440" y="2733840"/>
            <a:ext cx="8925120" cy="13903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2"/>
          <a:stretch/>
        </p:blipFill>
        <p:spPr>
          <a:xfrm>
            <a:off x="395280" y="3170160"/>
            <a:ext cx="2521080" cy="25740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3"/>
          <a:stretch/>
        </p:blipFill>
        <p:spPr>
          <a:xfrm>
            <a:off x="468360" y="3500280"/>
            <a:ext cx="2521080" cy="2574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4"/>
          <a:stretch/>
        </p:blipFill>
        <p:spPr>
          <a:xfrm>
            <a:off x="395280" y="3798720"/>
            <a:ext cx="252108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8373" descr=""/>
          <p:cNvPicPr/>
          <p:nvPr/>
        </p:nvPicPr>
        <p:blipFill>
          <a:blip r:embed="rId1"/>
          <a:stretch/>
        </p:blipFill>
        <p:spPr>
          <a:xfrm>
            <a:off x="185760" y="852480"/>
            <a:ext cx="8772480" cy="56008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468360" y="2833560"/>
            <a:ext cx="4535280" cy="25740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395280" y="3151080"/>
            <a:ext cx="2664000" cy="25740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3132000" y="3141720"/>
            <a:ext cx="2664000" cy="2570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5"/>
          <a:stretch/>
        </p:blipFill>
        <p:spPr>
          <a:xfrm>
            <a:off x="468360" y="3448080"/>
            <a:ext cx="2663640" cy="2570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6"/>
          <a:stretch/>
        </p:blipFill>
        <p:spPr>
          <a:xfrm>
            <a:off x="3635280" y="6140520"/>
            <a:ext cx="1728720" cy="257040"/>
          </a:xfrm>
          <a:prstGeom prst="rect">
            <a:avLst/>
          </a:prstGeom>
          <a:ln w="0">
            <a:noFill/>
          </a:ln>
        </p:spPr>
      </p:pic>
      <p:pic>
        <p:nvPicPr>
          <p:cNvPr id="941" name="图片 58379" descr=""/>
          <p:cNvPicPr/>
          <p:nvPr/>
        </p:nvPicPr>
        <p:blipFill>
          <a:blip r:embed="rId7"/>
          <a:stretch/>
        </p:blipFill>
        <p:spPr>
          <a:xfrm>
            <a:off x="1282680" y="4753080"/>
            <a:ext cx="2238480" cy="17049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8"/>
          <a:stretch/>
        </p:blipFill>
        <p:spPr>
          <a:xfrm>
            <a:off x="8542440" y="3068640"/>
            <a:ext cx="360360" cy="2570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9"/>
          <a:stretch/>
        </p:blipFill>
        <p:spPr>
          <a:xfrm>
            <a:off x="8523360" y="3500280"/>
            <a:ext cx="512640" cy="25740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10"/>
          <a:stretch/>
        </p:blipFill>
        <p:spPr>
          <a:xfrm>
            <a:off x="8532720" y="3924360"/>
            <a:ext cx="360360" cy="2570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11"/>
          <a:stretch/>
        </p:blipFill>
        <p:spPr>
          <a:xfrm>
            <a:off x="8542440" y="4292640"/>
            <a:ext cx="360360" cy="2570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12"/>
          <a:stretch/>
        </p:blipFill>
        <p:spPr>
          <a:xfrm>
            <a:off x="8459640" y="4734000"/>
            <a:ext cx="360360" cy="2570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13"/>
          <a:stretch/>
        </p:blipFill>
        <p:spPr>
          <a:xfrm>
            <a:off x="8532720" y="5122800"/>
            <a:ext cx="360360" cy="25740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14"/>
          <a:stretch/>
        </p:blipFill>
        <p:spPr>
          <a:xfrm>
            <a:off x="8532720" y="5554800"/>
            <a:ext cx="360360" cy="2570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15"/>
          <a:stretch/>
        </p:blipFill>
        <p:spPr>
          <a:xfrm>
            <a:off x="8532720" y="5959440"/>
            <a:ext cx="36036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2:12:50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